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DB3A9-D129-4B22-8B34-7F0C0B64BEC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9536F-F6AE-4CD2-AC39-E4E7869069C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A9E7A-B9EB-4AFB-80EA-14C29B0D1A4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C34C3-76FD-4AFB-AFD8-7AE590AB61A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C910B-DBED-48A5-850B-4700E620954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8380E-7EED-40E1-BE5A-E21E1AA84C0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A34A2-F458-459D-8882-2E84A8D3C6E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75407-B222-41B5-8F4E-0950E861B6E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7261B-62FE-45A2-96F6-29F0AB160D0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9CE84-66AD-4AFE-A618-292FF9AE7F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BBF9-4777-4C27-B2D9-728DC23C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44199-6458-4378-9F28-796DE2FB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30397-C0AD-4EAD-BDC0-481CEE780C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E05EA-9AA4-4CA7-954F-ACB0AA08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C0CAE-B886-42A2-8EC5-6A6AA63F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558DA-73D1-4E5D-B2F4-0060BE06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1A804-1035-4CBC-A383-DFA808EE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B8755-99A3-4931-AB7E-BCC517F7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7C032-298E-4B71-99DA-B89FCB96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59220-AFF8-4D23-9FA6-235D2A65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D7001-E76F-4F3E-B1D9-B18B25EF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48E03A-E4A8-45FA-9860-2DF5225D154E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6844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COORDINACIÓN NERVI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539640" y="2519280"/>
            <a:ext cx="4243320" cy="30956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La coordinación nervi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82692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recepción del estímu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3"/>
          <a:stretch/>
        </p:blipFill>
        <p:spPr>
          <a:xfrm>
            <a:off x="4352760" y="2448000"/>
            <a:ext cx="4214880" cy="3060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826920" y="1341360"/>
            <a:ext cx="77058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ienza cuando el sistema nervioso recibe un estímulo desde los órganos sensori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cho estímulo llega hasta las zonas del sistema nervioso central encargadas de procesar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1476360" y="5256360"/>
            <a:ext cx="270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maginemos un arquero que apunta a una diana. Los ojos se encargan de captar la imagen de dicha dian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400720" y="5219640"/>
            <a:ext cx="270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imagen de la diana captada por el ojo viaja hasta el área del cerebro encargada de procesar dicha inform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720720" y="2519280"/>
            <a:ext cx="4319640" cy="3227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4857840" y="2540160"/>
            <a:ext cx="3962160" cy="303984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3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La coordinación nervi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755640" y="765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elaboración de la respue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684360" y="1341360"/>
            <a:ext cx="799128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vez se ha recibido el estímulo, las distintas áreas del sistema nervioso central elaboran la respue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cha respuesta es enviada desde el sistema central a los distintos nervios, que llevarán la respuesta a los efect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476360" y="5327640"/>
            <a:ext cx="284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iguiendo el ejemplo del arquero, una vez el cerebro ha procesado la imagen de la diana, prepara una respues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4896000" y="5400720"/>
            <a:ext cx="284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sistema nervioso central llevará dichas respuestas a los efector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800360" y="2879640"/>
            <a:ext cx="5580000" cy="25192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La coordinación nervi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2692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respuesta se efectú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84360" y="1268280"/>
            <a:ext cx="820872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ndo la respuesta es llevada a los efectores, estos efectúa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respue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nque a veces la respuesta puede ser de naturaleza no muscular, como una secreción, en la mayor parte de los casos implica un movimiento muscular, ya sea involuntario, reflejo, o voluntar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160720" y="5319720"/>
            <a:ext cx="579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inalmente, los músculos del arquero efectuarán la respuesta, moviendo los músculos de los brazos, del torso... haciendo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que dispare con la intención de acertar en su objetiv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luis</cp:lastModifiedBy>
  <dcterms:modified xsi:type="dcterms:W3CDTF">2012-10-28T09:39:13Z</dcterms:modified>
  <cp:revision>45</cp:revision>
  <dc:subject/>
  <dc:title>Diapositiva 1</dc:title>
</cp:coreProperties>
</file>